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.pct" ContentType="image/x-pict"/>
  <Override PartName="/ppt/media/image2.pct" ContentType="image/x-pict"/>
  <Override PartName="/ppt/media/image1.pct" ContentType="image/x-pict"/>
  <Override PartName="/ppt/media/image14.pct" ContentType="image/x-pict"/>
  <Override PartName="/ppt/media/image23.pct" ContentType="image/x-pict"/>
  <Override PartName="/ppt/media/image26.png" ContentType="image/png"/>
  <Override PartName="/ppt/media/image15.pct" ContentType="image/x-pict"/>
  <Override PartName="/ppt/media/image27.png" ContentType="image/png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4.png" ContentType="image/png"/>
  <Override PartName="/ppt/media/image21.pct" ContentType="image/x-pict"/>
  <Override PartName="/ppt/media/image25.png" ContentType="image/png"/>
  <Override PartName="/ppt/media/image2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DDBE-A7C0-4457-817B-A8AF87BA1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ventual goal of covering all the biomedic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p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roots,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b4 we bring in env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. Redundancy. Searches for ‘cystein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go one better than links; define terms using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tangled; poor separation of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digmatic model for the OBO Foun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se from genome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experimenting with additional axi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 dag, prone to erro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ccupies multiple slots - DO can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deals with gene products whose phenotypic effects manifest at all levels of granu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D6B-FD53-441D-9015-05F077E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9CE-3E05-4E6B-B1FC-1EA697D7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A88-0924-4B2E-AE6C-5AFE5396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280-7F0F-44AC-A745-B9DC4E6A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020-CCE3-4E8D-A6C2-7699021F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F3C-7583-4589-B328-9EE3A30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B2A-9E56-4542-BA30-371D497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96F-DEC8-4DB9-9FDF-BBE15C6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159-BA24-4785-B760-EE387CC2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0A1-C1B8-4AFF-974F-391D657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FC2-4617-4D7A-AC6D-111BA5D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52D-5AA9-406F-9121-CDAD615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D71F-845F-44A4-BC05-4C85D843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ofoundry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iki.geneontology.org/index.php?XP:biological_process_xp_cell" TargetMode="External"/><Relationship Id="rId2" Type="http://schemas.openxmlformats.org/officeDocument/2006/relationships/hyperlink" Target="http://wiki.geneontology.org/index.php/XP:mammalian_phenotype_xp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url.org/obo/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bioontologies.org/" TargetMode="External"/><Relationship Id="rId2" Type="http://schemas.openxmlformats.org/officeDocument/2006/relationships/hyperlink" Target="http://obofoundry.org/wiki/index.php/Mappings" TargetMode="External"/><Relationship Id="rId3" Type="http://schemas.openxmlformats.org/officeDocument/2006/relationships/hyperlink" Target="http://purl.org/obo/" TargetMode="External"/><Relationship Id="rId4" Type="http://schemas.openxmlformats.org/officeDocument/2006/relationships/hyperlink" Target="http://purl.org/obo/" TargetMode="External"/><Relationship Id="rId5" Type="http://schemas.openxmlformats.org/officeDocument/2006/relationships/hyperlink" Target="http://obofoundry.org/wiki/index.php/Identifier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eontology.org/GO.tools.shtml#micro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bioontology.org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CL:Aligning_species-specific_anatomy_ontologies_with_CL" TargetMode="External"/><Relationship Id="rId2" Type="http://schemas.openxmlformats.org/officeDocument/2006/relationships/hyperlink" Target="http://www.berkeleybop.org/obol/#fly_anatomy_xp_cell-obol" TargetMode="Externa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inking Multiple Ontolog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AID Cell Ontology Worksho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 200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pen Biomedical Ontologies (OBO) Found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llection of orthogonal reference ontologies in the biological/biomedical domai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BO Foundry: Each is committed to an agreed upon set of principles governing best practices in ontology developm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 - chemical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I - investig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, MP -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 - cel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O - environment and habit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- Human dise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 - commo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MA - huma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9810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- sequenc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el organism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ct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use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: criteria, v1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-defined exchange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.g. OBO or OW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identifiers according to OBO ID poli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 Life-cycle / versio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clearly specified and delineated cont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unambiguou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or extends relations i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 documen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a plurality of users (and a mail list &amp; issue tracker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veloped collabora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rthogonal, modul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608400" y="6172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obofound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dges can link nodes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in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recise meaning of the relation is impor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 have formal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les for composing relations togeth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obofoundry.org/r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is_a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something is an instance of X (at time t), then it is also an instance of Y (at 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fore 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stance level part_of relation is prim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clas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 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X is part_of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neth cell part_of intestine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ucleus part_of Cell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euron part_of brain :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ere are some neurons that are part of others parts of the nervous system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, Y part_of 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refore, X part_of Z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as_part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ance level inverse of part_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X ha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 as p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cleate erythrocyt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instance of X was once a Y, or inherited a significant portion of its matter from a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 and deriv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s_from relation can be refined into two c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transformation_of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y instance of X was previously an instance of 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ansformation_of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derives_from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olds between distinct instances where Y inherits matter from 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BO ontologies just us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rel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h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quality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specific shape and a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process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B cell and an immune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roduction t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OBO perspec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se study in the 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: goals and princ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relatio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rganization of ontologies in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example from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L to the OBO Found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finitions state necessary and sufficient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s in the ontology graph state necessary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rythroid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megakaryocyte erythroid progenit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characteristics may not be uni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definition should state necess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haracteristics must be unique to the defined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“progenitor cell that is committed to the erythroid lineage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ition  should be precise and (as far as possible) translated / translatable to logical computabl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 should be in the sam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 is discriminating characteristics that differentiate (in the classification sense) Xs from other G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ons to terms in an ontology (the same ontology or a different on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lymphocyte th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xpress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mmunoglubulin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rthogonalit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f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 two ontologies should represent the same kind of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B-cell” should only be represented in o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ed entities should be coordinated 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: “B-cell differentiatio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term “cell” connects GO Cellular Component (cell parts) and CL (cell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redundancy an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sier to make the union consis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7120" y="228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ome OBO term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071800"/>
            <a:ext cx="4724640" cy="21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hould we organize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p-level organisation (BFO: Basic Formal Ontology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al catego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D things (continuan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s, organs, molecu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apes, sizes, concentrations, …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D things (proce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ful organisational principle for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hould not cross top level categor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9051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evels of granularity (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s can cross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332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65560" y="76320"/>
            <a:ext cx="812880" cy="6705360"/>
          </a:xfrm>
          <a:custGeom>
            <a:avLst/>
            <a:gdLst/>
            <a:ahLst/>
            <a:rect l="l" t="t" r="r" b="b"/>
            <a:pathLst>
              <a:path w="512" h="4224">
                <a:moveTo>
                  <a:pt x="496" y="0"/>
                </a:moveTo>
                <a:cubicBezTo>
                  <a:pt x="500" y="528"/>
                  <a:pt x="504" y="1056"/>
                  <a:pt x="496" y="1344"/>
                </a:cubicBezTo>
                <a:cubicBezTo>
                  <a:pt x="488" y="1632"/>
                  <a:pt x="512" y="1600"/>
                  <a:pt x="448" y="1728"/>
                </a:cubicBezTo>
                <a:cubicBezTo>
                  <a:pt x="384" y="1856"/>
                  <a:pt x="184" y="2016"/>
                  <a:pt x="112" y="2112"/>
                </a:cubicBezTo>
                <a:cubicBezTo>
                  <a:pt x="40" y="2208"/>
                  <a:pt x="32" y="2248"/>
                  <a:pt x="16" y="2304"/>
                </a:cubicBezTo>
                <a:cubicBezTo>
                  <a:pt x="0" y="2360"/>
                  <a:pt x="8" y="2408"/>
                  <a:pt x="16" y="2448"/>
                </a:cubicBezTo>
                <a:cubicBezTo>
                  <a:pt x="24" y="2488"/>
                  <a:pt x="32" y="2512"/>
                  <a:pt x="64" y="2544"/>
                </a:cubicBezTo>
                <a:cubicBezTo>
                  <a:pt x="96" y="2576"/>
                  <a:pt x="152" y="2592"/>
                  <a:pt x="208" y="2640"/>
                </a:cubicBezTo>
                <a:cubicBezTo>
                  <a:pt x="264" y="2688"/>
                  <a:pt x="360" y="2728"/>
                  <a:pt x="400" y="2832"/>
                </a:cubicBezTo>
                <a:cubicBezTo>
                  <a:pt x="440" y="2936"/>
                  <a:pt x="440" y="3032"/>
                  <a:pt x="448" y="3264"/>
                </a:cubicBezTo>
                <a:cubicBezTo>
                  <a:pt x="456" y="3496"/>
                  <a:pt x="448" y="4072"/>
                  <a:pt x="448" y="4224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763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52280" y="4495680"/>
            <a:ext cx="92962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80" y="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160" y="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i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1360" y="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915400" y="304920"/>
            <a:ext cx="228600" cy="6095880"/>
          </a:xfrm>
          <a:prstGeom prst="upDownArrow">
            <a:avLst>
              <a:gd name="adj1" fmla="val 50000"/>
              <a:gd name="adj2" fmla="val 530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762200" y="1709640"/>
          <a:ext cx="6696000" cy="40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709640"/>
                    <a:ext cx="66960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is an ontolog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mputable representation of some doma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hat hold between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itra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ortic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9625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itated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4" idx="0"/>
            <a:endCxn id="56" idx="2"/>
          </p:cNvCxnSpPr>
          <p:nvPr/>
        </p:nvCxnSpPr>
        <p:spPr>
          <a:xfrm flipV="1">
            <a:off x="5334120" y="4571280"/>
            <a:ext cx="129600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6629040" y="4571280"/>
            <a:ext cx="9151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1" name=""/>
          <p:cNvCxnSpPr>
            <a:stCxn id="56" idx="0"/>
            <a:endCxn id="58" idx="2"/>
          </p:cNvCxnSpPr>
          <p:nvPr/>
        </p:nvCxnSpPr>
        <p:spPr>
          <a:xfrm flipV="1">
            <a:off x="6629400" y="3047760"/>
            <a:ext cx="12960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2" name=""/>
          <p:cNvCxnSpPr>
            <a:stCxn id="56" idx="0"/>
            <a:endCxn id="57" idx="2"/>
          </p:cNvCxnSpPr>
          <p:nvPr/>
        </p:nvCxnSpPr>
        <p:spPr>
          <a:xfrm flipH="1" flipV="1">
            <a:off x="5562000" y="3047760"/>
            <a:ext cx="1067400" cy="915120"/>
          </a:xfrm>
          <a:prstGeom prst="straightConnector1">
            <a:avLst/>
          </a:prstGeom>
          <a:ln w="19080">
            <a:solidFill>
              <a:srgbClr val="00ccff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49975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549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0" y="3352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2767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is_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can help with modular ontology desig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y is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our ontologies will be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purpo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means of classify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out different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dular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multiple inheritance (&gt;1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r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over-us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cross aspects with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 complex descriptions from simpler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lyhierarchies arise from composi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800" y="3049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0160" y="25146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poly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4800240"/>
            <a:ext cx="27432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9480" y="1905120"/>
            <a:ext cx="221004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99800" y="20574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ces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76560" y="2133360"/>
            <a:ext cx="1600200" cy="236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066320" y="3124080"/>
            <a:ext cx="160020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057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structure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029200" y="54100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800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523880"/>
            <a:ext cx="579132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do more than simply link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-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ka logical definitio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ble genus-differentia definiti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523880"/>
            <a:ext cx="662940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biosynthesi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193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osynthetic process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090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sults_in_creation_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BI:135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200" y="259092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g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2880" y="35053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7160" y="342900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spects of a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quely identify a class /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ID for the term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at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dentifier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rmino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mes and synonyms/alternate lab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as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a related synonym and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exact synony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5649840" y="57150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v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534520" cy="32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 flipH="1">
            <a:off x="-360" y="533520"/>
            <a:ext cx="2971800" cy="1752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534160" y="304920"/>
            <a:ext cx="22860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610480" y="1981080"/>
            <a:ext cx="152640" cy="3657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" y="5791320"/>
            <a:ext cx="81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tic proces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biosynthetic proces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sults_in_change_to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6600" y="320040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results_in_change_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76520" y="4724280"/>
            <a:ext cx="350496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76720" y="3809880"/>
            <a:ext cx="3581280" cy="2438640"/>
          </a:xfrm>
          <a:prstGeom prst="line">
            <a:avLst/>
          </a:prstGeom>
          <a:ln w="1908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724280"/>
            <a:ext cx="6629400" cy="2057400"/>
          </a:xfrm>
          <a:custGeom>
            <a:avLst/>
            <a:gdLst/>
            <a:ahLst/>
            <a:rect l="l" t="t" r="r" b="b"/>
            <a:pathLst>
              <a:path w="4176" h="1296">
                <a:moveTo>
                  <a:pt x="4176" y="1200"/>
                </a:moveTo>
                <a:lnTo>
                  <a:pt x="4128" y="1296"/>
                </a:ln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6666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684680" y="152280"/>
            <a:ext cx="47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t the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o the work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9625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4952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2860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4038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8769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8400" y="1752480"/>
            <a:ext cx="32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cross-produ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asoner can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    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5909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9480" y="5762520"/>
            <a:ext cx="8077320" cy="10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"/>
          <p:cNvSpPr/>
          <p:nvPr/>
        </p:nvSpPr>
        <p:spPr>
          <a:xfrm>
            <a:off x="5715000" y="3505320"/>
            <a:ext cx="34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derlying representation i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-overloading: OBO Cell Ont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920" y="5029200"/>
            <a:ext cx="775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y not to assert too many is_a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9520" y="5029200"/>
            <a:ext cx="52246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use exist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-is_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98144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514600" cy="2705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5486400" y="3885840"/>
            <a:ext cx="11430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75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6320" y="68580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8000" y="38862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can use other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Cellular compon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nuclear phag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 cell (expresses immunoglubulin complex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Biological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otosynthetic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TO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iny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BI Chemical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secreting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NS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175360" y="4114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lecular function, 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D4 positiv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is used by 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1828800"/>
          <a:ext cx="8763120" cy="5041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1485720"/>
                <a:gridCol w="289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fferen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sults_in_acquisition_of_features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acrophage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heres_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acrop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ZFA (zebraf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_organis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Da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B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O (dise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ly anat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8 photoreceptor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ommati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ical process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iki.geneontology.org/index.php?XP:biological_process_xp_cel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covered inconsistencies between GO and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 differenti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lumnar/cuboidal epithelial cell different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P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iki.geneontology.org/index.php/XP:mammalian_phenotype_x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ulted in various fixes to M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Ontology Annotation Datab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cell ontology is a represent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cell that exis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 provid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ramework for connec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many points of coordination between CL and other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 could benefit from the gradual introduction of a modular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ntologies and their us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en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of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zing high-throughput datase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 (including C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ag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icating location of gene 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ing Phenotypic descri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ng information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integr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5" idx="0"/>
            <a:endCxn id="400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8" idx="0"/>
            <a:endCxn id="400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0"/>
            <a:endCxn id="395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3962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databases using the sam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2" idx="0"/>
            <a:endCxn id="417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15" idx="0"/>
            <a:endCxn id="417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12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about curation of other data type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pression, transcriptomic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etics, phenotypes and disea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ny others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tolo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rose partly in response to requirements outside scope of 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38862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lands of biological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1" idx="0"/>
            <a:endCxn id="438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0"/>
            <a:endCxn id="438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0"/>
            <a:endCxn id="431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5" idx="0"/>
            <a:endCxn id="447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6" idx="0"/>
            <a:endCxn id="447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0"/>
            <a:endCxn id="445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0"/>
            <a:endCxn id="456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5" idx="0"/>
            <a:endCxn id="456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9" idx="0"/>
            <a:endCxn id="454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815472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4280" y="144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8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5" idx="0"/>
            <a:endCxn id="482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8" idx="0"/>
            <a:endCxn id="482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0"/>
            <a:endCxn id="475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7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9" idx="0"/>
            <a:endCxn id="491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90" idx="0"/>
            <a:endCxn id="491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0"/>
            <a:endCxn id="489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6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8" idx="0"/>
            <a:endCxn id="500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0"/>
            <a:endCxn id="500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3" idx="0"/>
            <a:endCxn id="498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5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0"/>
            <a:endCxn id="527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3" idx="0"/>
            <a:endCxn id="527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0"/>
            <a:endCxn id="520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2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4" idx="0"/>
            <a:endCxn id="536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0"/>
            <a:endCxn id="536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0"/>
            <a:endCxn id="534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41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3" idx="0"/>
            <a:endCxn id="545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4" idx="0"/>
            <a:endCxn id="545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0"/>
            <a:endCxn id="543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50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2438280"/>
            <a:ext cx="6553080" cy="2133720"/>
          </a:xfrm>
          <a:custGeom>
            <a:avLst/>
            <a:gdLst/>
            <a:ahLst/>
            <a:rect l="l" t="t" r="r" b="b"/>
            <a:pathLst>
              <a:path w="4128" h="1344">
                <a:moveTo>
                  <a:pt x="0" y="1248"/>
                </a:moveTo>
                <a:lnTo>
                  <a:pt x="240" y="0"/>
                </a:lnTo>
                <a:lnTo>
                  <a:pt x="1392" y="96"/>
                </a:lnTo>
                <a:lnTo>
                  <a:pt x="1680" y="1344"/>
                </a:lnTo>
                <a:lnTo>
                  <a:pt x="1920" y="96"/>
                </a:lnTo>
                <a:lnTo>
                  <a:pt x="3984" y="0"/>
                </a:lnTo>
                <a:lnTo>
                  <a:pt x="3792" y="1200"/>
                </a:lnTo>
                <a:lnTo>
                  <a:pt x="4128" y="134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4572000"/>
            <a:ext cx="6096240" cy="228600"/>
          </a:xfrm>
          <a:custGeom>
            <a:avLst/>
            <a:gdLst/>
            <a:ahLst/>
            <a:rect l="l" t="t" r="r" b="b"/>
            <a:pathLst>
              <a:path w="3840" h="144">
                <a:moveTo>
                  <a:pt x="0" y="0"/>
                </a:moveTo>
                <a:lnTo>
                  <a:pt x="1488" y="144"/>
                </a:lnTo>
                <a:lnTo>
                  <a:pt x="3840" y="96"/>
                </a:lnTo>
              </a:path>
            </a:pathLst>
          </a:custGeom>
          <a:noFill/>
          <a:ln w="31680">
            <a:solidFill>
              <a:srgbClr val="3366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8120"/>
            <a:ext cx="9067680" cy="3029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44080" y="49528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 et al : GO to 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2680" y="594360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0" y="380880"/>
            <a:ext cx="89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mino acid cross-products in G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448920" cy="45259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2680" y="30492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approach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based approaches to ‘decompose’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da/Hun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rn of neces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 did not exist when GO sta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w ontologies should tak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ospectiv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parate out aspects from the out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heuristic parsing necessa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spective approa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equence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4597560" cy="3683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0880" y="2209680"/>
            <a:ext cx="334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hierarchies created from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ross-products made from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OBO: The Gene Ontology (GO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ontologies for annotating genes and gene produ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ontologies are organised as a collection of related terms, constituting nodes in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radually incorporating other logical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124080"/>
          <a:ext cx="6858000" cy="18226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Molecula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7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9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Biological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3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Cellular 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43200" y="1181160"/>
            <a:ext cx="4800600" cy="5676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343400" y="51814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9436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I: Ontology for Biomedical Investig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or to MGED/Fu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s the realm of investig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materi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transform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s maximal use of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mary representation language is 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WL translation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url.org/ob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cial Insect Behavior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787640" cy="3429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 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e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between chemical and 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mit chemical terms to ChEB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per level behavior ontology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relevant for all kingdoms of lif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of anatomical ontologies has been less 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&amp; subcellular: one ontology applicable to a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oss Anatomy: multiple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ertebrat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 + EMAP: Mou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MA: Human (adul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HDA: Huma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ZFA: Zebrafis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AO: teleost anatom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AO: Xenop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385520" y="4114800"/>
            <a:ext cx="4464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verteb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Bbt: Drosophila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ck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squito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pper level shared anatom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ery gener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leost anatomy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ader than zebrafish anatom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include 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ells to gross anatomical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rkinje cell part_of cerebell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ans ontologies (CL + ssAO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ges and develop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54452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0480" y="3505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4520" y="4572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4880" y="57913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Using multiple ontologies: Pre vs post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 descriptions (aka cross-products) can be composed from 2 or mor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ontology editors (pr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curators (pos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 hyperplas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composed phenotype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P:0005141 “liver hyperplasia”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increased size of liver due to increased hepatocyte cell numb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-composition at time of genotype cu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ATO:0000644 “hyperplastic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:0000358 “liver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ich strategy to choos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ither strategy can be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mixed and match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ea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composed terms must have computable definitions (cross-produc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ly created retrospec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progress 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P (Mammalian Phenotype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136/5760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veat: species-specific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Phenotyp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50/1569 xp def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Trai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40/765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 + GA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ironmental ontology and gazette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bi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st (anatomy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ographical features (eg hydrothermal ven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Qualities, chemical ent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ei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 to/from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unctions of ancestral prote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067680" cy="5945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9640" y="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-based annotation in Phe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echnical consequences of modular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ce on network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ts - convert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cial &amp; management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nge and versio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ies.org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ing 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/wiki/index.php/Mapping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ble URLs for downloading ontologies in obo or ow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purl.org/obo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Identifier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obofoundry.org/wiki/index.php/Identifi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 and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Annotation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sociations between genes and GO terms, with evid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ff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et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: “</a:t>
            </a:r>
            <a:r>
              <a:rPr b="0" lang="en-US" sz="2000" spc="-1" strike="noStrike">
                <a:solidFill>
                  <a:srgbClr val="009999"/>
                </a:solidFill>
                <a:latin typeface="Gill Sans"/>
              </a:rPr>
              <a:t>methionine metabolis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O:0006555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22,000 genes and gene products have high quality annotations to GO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.4m including automated predic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66,000 publications cura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ety of analysis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geneontology.org/GO.tools.shtml#mic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 modula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verload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is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value of curated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duplication of effort and maximises curation eff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are long term infrastru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’s worth getting them righ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arning mor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tional Center for Biomed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wse and search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ing soon: inter-ont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 and recommend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iling lis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ck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"/>
              </a:rPr>
              <a:t>Restructuring Cell.obo</a:t>
            </a:r>
            <a:endParaRPr b="0" lang="en-US" sz="8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Cell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verloading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fficult to mainta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ads to “true path” vio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lace is links with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as_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eep main axis structure-based (but not religiously so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erm immediately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-by-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made a new function term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on of genome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ircula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cre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taboli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trac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bsorp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l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umulate stuff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ing (mitogenic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hotosynthes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 nitroge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7524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reate group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-304920" y="380880"/>
            <a:ext cx="94489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914400" y="304920"/>
            <a:ext cx="9753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is_a links to cell-by-function terms with has_function links to corresponding function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1143000" y="457200"/>
            <a:ext cx="10287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 about the old cell-by-function term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liminate them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support them, but infer the ‘tangled DAG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xp def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fixing cell = cell THAT has_function nitrogen-fix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160" y="0"/>
            <a:ext cx="7262640" cy="66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6386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::Term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erlock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0"/>
            <a:ext cx="33526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and high-throughput bi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representation of GO ter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/ ongoing issu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between cell functions &amp; GO biological proces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-by-line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ynchronizing ssAOs and C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, zfa, plant_anat all represent cell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rt_of links from cells to gross anatom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purkinje_cell part_of cerebellu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refs from ssAOs to CL I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eat as ss sub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reasoner to stay in syn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/wiki/index.php/CL:Aligning_species-specific_anatomy_ontologies_with_C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/#fly_anatomy_xp_cell-obo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ass-level relation between continuant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lation between two classes, in which instances retain their identity yet change their classification by virtue of some kind of transformation. Formally: C transformation_of C' if and only if given any c and any t, if c instantiates C at time t, then for some t', c instantiates C' at t' and t' earlier t, and there is no t2 such that c instantiates C at t2 and c instantiates C' at t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763560" y="2760840"/>
            <a:ext cx="7620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lds between continua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rivation on the instance level (*derives_from*) holds between distinct material continuants when one succeeds the other across a temporal divide in such a way that at least a biologically significant portion of the matter of the earlier continuant is inherited by the la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say that one class C derives_from class C' if instances of C are connected to instances of C' via some chain of instance-level derivation relation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osteocyte derives_from osteobla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59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457200" y="914400"/>
          <a:ext cx="8458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and the need for OB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terms implicitly reference kinds of entities outwith the scope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6fc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fcf"/>
                </a:solidFill>
                <a:latin typeface="Gill Sans"/>
              </a:rPr>
              <a:t>Methion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Neural crest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ig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Cardiac musc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vascula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permeabil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was born from the need to create source ontologies for GO term ‘cross-products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 composite classes in terms of simpler o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7256880" y="25909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32080" y="3124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44040" y="36576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4360" y="403848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cp:keywords/>
  <dc:language>en-US</dc:language>
  <cp:lastModifiedBy>Chris Mungall</cp:lastModifiedBy>
  <cp:lastPrinted>2008-05-10T02:07:40Z</cp:lastPrinted>
  <dcterms:modified xsi:type="dcterms:W3CDTF">2008-05-14T20:33:54Z</dcterms:modified>
  <cp:revision>603</cp:revision>
  <dc:subject/>
  <dc:title>PowerPoint Presentation  -  Ontologies for biological annotation</dc:title>
</cp:coreProperties>
</file>